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D8DB-C4A8-4935-9889-EFCB9EDD2716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0ECC-CAA7-4CEC-8C8B-25AE3754CADD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9E82-54D5-4CD8-B264-C290A374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7BBE-52FE-4422-B8F8-1F66635E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FDB1-4665-47A9-A004-0B3FED97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59CD-C710-449C-98C4-0325BE32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7DC2-71CC-4FCA-9E98-55BEA8CA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34F-DD41-40EB-986B-47730DA9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356B-B657-4F11-A085-454A13D6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516-25EF-4159-BF40-88CFBB26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FBB-95A4-4577-9BD8-B0200F91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DAAA-79D3-4750-B6E2-34B30EA2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164E-1EAD-40FD-BA6B-05744222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BD7F-ED36-4C45-9043-858BFF2F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D416-2DAD-42C0-A611-E43FF4429C1D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lejandro.lopez@cimav.edu.mx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all for Pap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68000" y="1125000"/>
            <a:ext cx="6264360" cy="53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240" indent="-353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ly papers presented at SME conferences will be considered (Poster or Ora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3240" indent="-353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pers from past SME congresses can also be consid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3240" indent="-353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mission will be through the Elsevier-IJHE System.  Special Issue name is:  ”Mexican Hydrogen” and must follow the “Journal Author’s Guideline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3240" indent="-353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eer-review process of the manuscripts for this special issue will be handled by an IJHE assigned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3240" indent="-353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fore submission an e-mail containing the paper details has to sent to Dr. Alejandro Lopez Ortiz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lejandro.lopez@cimav.edu.m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3240" indent="-353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ilure to do so will cause the paper NOT to be consider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3240" indent="-353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mission deadline will be August 3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3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3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phContent_imgCoverLink" descr="International Journal of Hydrogen Energy"/>
          <p:cNvPicPr/>
          <p:nvPr/>
        </p:nvPicPr>
        <p:blipFill>
          <a:blip r:embed="rId2"/>
          <a:stretch/>
        </p:blipFill>
        <p:spPr>
          <a:xfrm>
            <a:off x="0" y="0"/>
            <a:ext cx="2411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9:54:56Z</dcterms:created>
  <dc:creator>Alejandro</dc:creator>
  <dc:description/>
  <dc:language>en-US</dc:language>
  <cp:lastModifiedBy>Alejandro</cp:lastModifiedBy>
  <dcterms:modified xsi:type="dcterms:W3CDTF">2012-07-12T20:15:44Z</dcterms:modified>
  <cp:revision>5</cp:revision>
  <dc:subject/>
  <dc:title>Call for Papers</dc:title>
</cp:coreProperties>
</file>